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0F148-EF4B-40E6-B34D-41032CC6C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27EB-D5F1-4AB7-8C52-E060186B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05C99-44BB-43C0-855A-FF7B465F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D9AC1-80C4-43BE-959C-506589E8A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63A1D-C776-459F-8CD4-8E8A2D1A2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C922F-7EA2-44BA-B0CC-591EC51AC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15C45-FD9C-4B73-A4CA-D8D70EC2E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48805-4193-413D-BC0A-94AA69320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9C5A0-4FB0-4BB5-858C-F19694E20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E3BD3-7AC3-4837-8E4E-D02208BA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F4C03-452C-4075-AC15-787450BE1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1BA4-2911-45AE-A1BE-B79668264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20F69-0BE8-4A7A-B964-67F3BD6B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0A6D8-1011-4F66-A3F7-93362AA4F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4A877-0C52-4885-A891-2A2818670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244A9-810B-470D-8D8C-3994C93E8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BFADB-53BF-4FBA-BCA6-218B2E2F9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4426-CC87-4435-9C18-5B6D821BF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1D60-F6A7-4F4B-BA4C-25337FC67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628E-9AA9-4889-BDC9-B8204188B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0F1F-7E34-48DE-AF82-CAED14324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F506-29AF-47B8-854E-24E722E45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07E8-EC81-4B9E-AC6F-254F6625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F9E4-C44C-4225-A74F-3B73A3A3E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BD0C-B22C-4632-9EE8-DE924B9EF2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222"/>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4098-184A-4534-8DB9-FE019A36B84F}"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ve Writing</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ug. 30</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Rainie was acting strange. I asked him what was wrong, but he didn’t answer me. I had to tie up my dogs, so I could go over to find out what was the matter with him. When I finally walked over to where Rainie was standing, he ran aw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456840"/>
            <a:ext cx="8153280" cy="5638680"/>
          </a:xfrm>
          <a:prstGeom prst="rect">
            <a:avLst/>
          </a:prstGeom>
          <a:noFill/>
          <a:ln w="0">
            <a:noFill/>
          </a:ln>
        </p:spPr>
        <p:txBody>
          <a:bodyPr anchor="t">
            <a:normAutofit/>
          </a:bodyPr>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How do the two versions</a:t>
            </a:r>
            <a:br>
              <a:rPr sz="3200"/>
            </a:br>
            <a:r>
              <a:rPr b="0" lang="en-US" sz="3200" spc="-1" strike="noStrike">
                <a:solidFill>
                  <a:srgbClr val="ffcc00"/>
                </a:solidFill>
                <a:latin typeface="Verdana"/>
              </a:rPr>
              <a:t> compare?</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Did you notice how the </a:t>
            </a:r>
            <a:br>
              <a:rPr sz="3200"/>
            </a:br>
            <a:r>
              <a:rPr b="0" lang="en-US" sz="3200" spc="-1" strike="noStrike">
                <a:solidFill>
                  <a:srgbClr val="ffcc00"/>
                </a:solidFill>
                <a:latin typeface="Verdana"/>
              </a:rPr>
              <a:t>author built up a suspenseful situation by making the reader wait and wait while Billy tied his dogs? </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Go back two slides. Highlight the words that describe how Rainie was acting or feeling. Find the simile.</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How do the words you highlighted add to the telling of the stor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Check out one more example of how </a:t>
            </a:r>
            <a:r>
              <a:rPr b="0" lang="en-US" sz="3200" spc="-1" strike="noStrike">
                <a:solidFill>
                  <a:srgbClr val="ff3399"/>
                </a:solidFill>
                <a:latin typeface="Verdana"/>
              </a:rPr>
              <a:t>Show, Don’t Tell</a:t>
            </a:r>
            <a:r>
              <a:rPr b="0" lang="en-US" sz="3200" spc="-1" strike="noStrike">
                <a:solidFill>
                  <a:srgbClr val="ffcc00"/>
                </a:solidFill>
                <a:latin typeface="Verdana"/>
              </a:rPr>
              <a:t> helps make a story more interest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        </a:t>
            </a:r>
            <a:r>
              <a:rPr b="0" lang="en-US" sz="2800" spc="-1" strike="noStrike">
                <a:solidFill>
                  <a:srgbClr val="ffcc00"/>
                </a:solidFill>
                <a:latin typeface="Verdana"/>
              </a:rPr>
              <a:t>As graceful as any queen, with her head high in the air, and her long red tail arched in a perfect rainbow, my little dog walked down the table. With her warm gray eyes staring straight at me, on she came. Walking up to me, she laid her head on my shoulder. As I put my arms around her, the crowd explode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Little Ann walked across the table towards Billy. She did a good job, and the men cheer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n the first version could you picture Little Ann as she competed in the beauty contest?</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Go back and highlight words that described Little Ann.</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Find the metaphor. Little Ann’s tail was compared to what?</a:t>
            </a:r>
            <a:endParaRPr b="0" lang="en-US" sz="3200" spc="-1" strike="noStrike">
              <a:solidFill>
                <a:srgbClr val="ffcc00"/>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missed the bus.</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raced down the road, wildly waving my hands, and yelling, “Stop, stop,” but the bus traveled on down the road without stopping.</a:t>
            </a:r>
            <a:endParaRPr b="0" lang="en-US" sz="3200" spc="-1" strike="noStrike">
              <a:solidFill>
                <a:srgbClr val="ffcc00"/>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The broken windows and creaking hinges made me tremble as I slowly crossed the shadowed yard towards the dilapidated house.</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was scared as I walked towards the haunted hou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Now let’s practice by writing our own paragraph. First make a list of things a person might do when angr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380520" y="380520"/>
            <a:ext cx="8077320" cy="6248520"/>
          </a:xfrm>
          <a:prstGeom prst="rect">
            <a:avLst/>
          </a:prstGeom>
          <a:noFill/>
          <a:ln w="0">
            <a:noFill/>
          </a:ln>
        </p:spPr>
        <p:txBody>
          <a:bodyPr anchor="t">
            <a:normAutofit/>
          </a:bodyPr>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pace back and forth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ace goes red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sts clench open and shut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voice gets louder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yes narrow</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orehead creas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loud sigh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ringing hand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cracking of knuckl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veins popping out in forehead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vil ey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rolled up sleeves of shirt with quick jerky movements</a:t>
            </a:r>
            <a:r>
              <a:rPr b="0" lang="en-US" sz="2800" spc="-1" strike="noStrike">
                <a:solidFill>
                  <a:srgbClr val="ffcc00"/>
                </a:solidFill>
                <a:latin typeface="Arial Black"/>
              </a:rPr>
              <a:t> </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riting Warm-up</a:t>
            </a:r>
            <a:endParaRPr b="0" lang="en-US" sz="4400" spc="-1" strike="noStrike">
              <a:solidFill>
                <a:srgbClr val="ffffff"/>
              </a:solidFill>
              <a:latin typeface="Arial Black"/>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one paragraph about what you consider to be your most prized possession. Why is the object important to you?</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Write a paragraph describing your anger as you tell a police officer that a robber just stole your wallet with all your money inside. Use as many of the phrases from the previous slide as possibl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light the words or phrases that show, don’t tell.</a:t>
            </a:r>
            <a:endParaRPr b="0" lang="en-US" sz="4000" spc="-1" strike="noStrike">
              <a:solidFill>
                <a:srgbClr val="ffffff"/>
              </a:solidFill>
              <a:latin typeface="Arial Black"/>
            </a:endParaRPr>
          </a:p>
        </p:txBody>
      </p:sp>
      <p:sp>
        <p:nvSpPr>
          <p:cNvPr id="38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Verdana"/>
              </a:rPr>
              <a:t>     </a:t>
            </a:r>
            <a:r>
              <a:rPr b="0" i="1" lang="en-US" sz="3200" spc="-1" strike="noStrike">
                <a:solidFill>
                  <a:srgbClr val="ffcc00"/>
                </a:solidFill>
                <a:latin typeface="Verdana"/>
              </a:rPr>
              <a:t>Pacing back and forth and wringing my hands I drew in a shaky voice. I could feel my face steaming and knew I must be the color of an apple. My voice grew louder, and I knew my veins were popping out on my forehead as I told the officer that I couldn’t even pay for a ride home without my walle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ssignment:</a:t>
            </a:r>
            <a:endParaRPr b="0" lang="en-US" sz="4400" spc="-1" strike="noStrike">
              <a:solidFill>
                <a:srgbClr val="ffffff"/>
              </a:solidFill>
              <a:latin typeface="Arial Black"/>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250 words about your most embarrassing moment, or a prank you played on someone, or they played on you.</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how, Don't Tell </a:t>
            </a: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irst Rule of Writing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301320"/>
            <a:ext cx="82296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is Show, Don’t Tell?</a:t>
            </a:r>
            <a:endParaRPr b="0" lang="en-US" sz="4400" spc="-1" strike="noStrike">
              <a:solidFill>
                <a:srgbClr val="ffffff"/>
              </a:solidFill>
              <a:latin typeface="Arial Black"/>
            </a:endParaRPr>
          </a:p>
        </p:txBody>
      </p:sp>
      <p:sp>
        <p:nvSpPr>
          <p:cNvPr id="357" name="PlaceHolder 2"/>
          <p:cNvSpPr>
            <a:spLocks noGrp="1"/>
          </p:cNvSpPr>
          <p:nvPr>
            <p:ph/>
          </p:nvPr>
        </p:nvSpPr>
        <p:spPr>
          <a:xfrm>
            <a:off x="685800" y="2361960"/>
            <a:ext cx="7772400" cy="3429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The </a:t>
            </a:r>
            <a:r>
              <a:rPr b="1" lang="en-US" sz="3200" spc="-1" strike="noStrike">
                <a:solidFill>
                  <a:srgbClr val="ff3399"/>
                </a:solidFill>
                <a:latin typeface="Verdana"/>
              </a:rPr>
              <a:t>Show, Don’t Tell</a:t>
            </a:r>
            <a:r>
              <a:rPr b="0" lang="en-US" sz="3200" spc="-1" strike="noStrike">
                <a:solidFill>
                  <a:srgbClr val="ffcc00"/>
                </a:solidFill>
                <a:latin typeface="Verdana"/>
              </a:rPr>
              <a:t> method of writing is when the writer is able to create a picture in the reader's mind, to get away from the repetition of such empty words like went, big, or sai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Read the next two slides. How do they compar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     </a:t>
            </a:r>
            <a:r>
              <a:rPr b="0" lang="en-US" sz="2800" spc="-1" strike="noStrike">
                <a:solidFill>
                  <a:srgbClr val="ffcc00"/>
                </a:solidFill>
                <a:latin typeface="Verdana"/>
              </a:rPr>
              <a:t>When I left my office that beautiful spring day, I had no idea what was in store for me. To begin with, everything was too perfect for anything unusual to happen. It was one of those days when a man feels good, feels like speaking to his neighbor, is glad to live in a country like ours, and proud of his government. You know what I mean, one of those rare days when everything is right and nothing is wrong</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left work feeling happy. It was a good d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04920" y="837720"/>
            <a:ext cx="853416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hat differences did you see </a:t>
            </a:r>
            <a:br>
              <a:rPr sz="2800"/>
            </a:br>
            <a:r>
              <a:rPr b="0" lang="en-US" sz="2800" spc="-1" strike="noStrike">
                <a:solidFill>
                  <a:srgbClr val="ffcc00"/>
                </a:solidFill>
                <a:latin typeface="Verdana"/>
              </a:rPr>
              <a:t>in the two version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he first versi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as much longer</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had describing words such as beautiful spring day</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created a mood</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built up a feeling that something was about to happe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w compare the next two slid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2" end="2"/>
                                            </p:txEl>
                                          </p:spTgt>
                                        </p:tgtEl>
                                        <p:attrNameLst>
                                          <p:attrName>style.visibility</p:attrName>
                                        </p:attrNameLst>
                                      </p:cBhvr>
                                      <p:to>
                                        <p:strVal val="visible"/>
                                      </p:to>
                                    </p:set>
                                    <p:anim calcmode="lin" valueType="num">
                                      <p:cBhvr additive="base">
                                        <p:cTn id="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3" end="3"/>
                                            </p:txEl>
                                          </p:spTgt>
                                        </p:tgtEl>
                                        <p:attrNameLst>
                                          <p:attrName>style.visibility</p:attrName>
                                        </p:attrNameLst>
                                      </p:cBhvr>
                                      <p:to>
                                        <p:strVal val="visible"/>
                                      </p:to>
                                    </p:set>
                                    <p:anim calcmode="lin" valueType="num">
                                      <p:cBhvr additive="base">
                                        <p:cTn id="1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4" end="4"/>
                                            </p:txEl>
                                          </p:spTgt>
                                        </p:tgtEl>
                                        <p:attrNameLst>
                                          <p:attrName>style.visibility</p:attrName>
                                        </p:attrNameLst>
                                      </p:cBhvr>
                                      <p:to>
                                        <p:strVal val="visible"/>
                                      </p:to>
                                    </p:set>
                                    <p:anim calcmode="lin" valueType="num">
                                      <p:cBhvr additive="base">
                                        <p:cTn id="1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5" end="5"/>
                                            </p:txEl>
                                          </p:spTgt>
                                        </p:tgtEl>
                                        <p:attrNameLst>
                                          <p:attrName>style.visibility</p:attrName>
                                        </p:attrNameLst>
                                      </p:cBhvr>
                                      <p:to>
                                        <p:strVal val="visible"/>
                                      </p:to>
                                    </p:set>
                                    <p:anim calcmode="lin" valueType="num">
                                      <p:cBhvr additive="base">
                                        <p:cTn id="2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a:t>
            </a:r>
            <a:endParaRPr b="0" lang="en-US" sz="4400" spc="-1" strike="noStrike">
              <a:solidFill>
                <a:srgbClr val="ffffff"/>
              </a:solidFill>
              <a:latin typeface="Arial Black"/>
            </a:endParaRPr>
          </a:p>
        </p:txBody>
      </p:sp>
      <p:sp>
        <p:nvSpPr>
          <p:cNvPr id="365" name="PlaceHolder 2"/>
          <p:cNvSpPr>
            <a:spLocks noGrp="1"/>
          </p:cNvSpPr>
          <p:nvPr>
            <p:ph/>
          </p:nvPr>
        </p:nvSpPr>
        <p:spPr>
          <a:xfrm>
            <a:off x="304920" y="1523880"/>
            <a:ext cx="8686800" cy="5943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Still holding my dogs by their collars, I looked back. I couldn’t understand what I saw. Rubin was laying where he had fallen. His back was toward me, and his body was bent in a “U” shape. Rainie was standing on the other side of him, staring dow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hollered and asked Rainie, “What’s the matter?”</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He didn’t answer. He just stood as though in a trance, staring down at Rubi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hollered again. He still didn’t answer. I didn’t know what to do. I couldn’t turn my dogs loose. They would go for the hound agai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Again I hollered at Rainie, asking him to come and help me. He neither moved nor answered. I had to do something.</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Looking around, my glance fell on the old barbed-wire fence. I led my dogs to it. Holding onto their collars with one hand, I worked a rusty barbed wire backwards and forwards against a staple until it broke. Running the end of it under their collars, I tied them up. They make two or three lunges toward the hound, but the wire held.</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walked over and stopped at Rainie’s side. I again asked, “What’s the matter?”</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He said not a word.</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could see that Rainie was paralyzed with fright. His mouth and eyes were opened wide, and his face was as white as chalk. I laid my hand on his shoulder. At the touch of my hand, he jumped and screamed. Still screaming, he turned and started running. I watched him until he disappeared in the darkness.</a:t>
            </a:r>
            <a:endParaRPr b="0" lang="en-US" sz="1600" spc="-1" strike="noStrike">
              <a:solidFill>
                <a:srgbClr val="ffcc00"/>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          </a:t>
            </a:r>
            <a:endParaRPr b="0" lang="en-US" sz="13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endParaRPr b="0" lang="en-US" sz="1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2:53:36Z</dcterms:created>
  <dc:creator>Gay  Miller</dc:creator>
  <dc:description/>
  <dc:language>en-US</dc:language>
  <cp:lastModifiedBy>Angie McCall</cp:lastModifiedBy>
  <dcterms:modified xsi:type="dcterms:W3CDTF">2011-08-30T20:13:15Z</dcterms:modified>
  <cp:revision>64</cp:revision>
  <dc:subject/>
  <dc:title>Show, Don't Tell </dc:title>
</cp:coreProperties>
</file>